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FB83-C034-4E86-9DE0-6832A5796E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67060-DC4F-40DC-94F7-B59CC888E9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BEAE-2A21-4DF4-8078-B6918F0311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rainer Notes:</a:t>
            </a:r>
            <a:endParaRPr b="0" lang="en-US" sz="16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 to slide.</a:t>
            </a:r>
            <a:endParaRPr b="0" lang="en-US" sz="16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FA03A-B521-48B3-B4A1-5C9A03BBFE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rainer Notes:</a:t>
            </a:r>
            <a:endParaRPr b="0" lang="en-US" sz="16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me show you how I figure out the meaning that is not directly stated in the text.</a:t>
            </a:r>
            <a:endParaRPr b="0" lang="en-US" sz="16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passage.</a:t>
            </a:r>
            <a:endParaRPr b="0" lang="en-US" sz="16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uthor doesn’t tell me directly that Remy is nervous and afraid to drive, but I can figure out how she feels by putting myself in her place and using my own experience. When I was first learning to drive, I remember feeling overwhelmed with the amount of things I needed to do to operate the car safely. Driving is very automatic now, in most situations. But when I went back to the East Coast recently and had to drive in a big city at rush hour, I remember feeling nervous and needing my family to stop talking and the radio off so I could focus on driving. </a:t>
            </a:r>
            <a:endParaRPr b="0" lang="en-US" sz="16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even though the author didn’t tell me directly that Remy was nervous and afraid to drive, I was able to understand the author’s intent by putting myself in her place and using my own experience. That is how we make inferences. Good readers systematically use the clues an author supplies in conjunction with their own background knowledge to figure out the meaning of the text. These are not wild guesses, but thoughtful and systematic.</a:t>
            </a:r>
            <a:endParaRPr b="0" lang="en-US" sz="16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FD47D-BCCA-448E-91F2-963A5CB543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rainer Notes:</a:t>
            </a:r>
            <a:endParaRPr b="0" lang="en-US" sz="1600" spc="-1" strike="noStrike">
              <a:solidFill>
                <a:srgbClr val="000000"/>
              </a:solidFill>
              <a:latin typeface="Calibri"/>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s look at this passage together. The author is implying something about the type of person the Driver’s Ed instructor is. How are we going to figure out what the author wants us to know about him? We need to look for clues in the passage. The author uses words and phrases like “merely there”, “time passed”, and “drifted”. Think about what you know about people who are merely passing time and drift from 1 session to the next. Have you ever known someone like that or felt that way yourself about something? How would you describe someone like that? Yes, people like that are bored and just going through the motions. The author wants to tell us that the instructor is just passing time, he’s bored with the job, and therefore, may not be very invested in the training.</a:t>
            </a:r>
            <a:endParaRPr b="0" lang="en-US" sz="16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You may want to provide additional examples from the text to practice to assure mastery.</a:t>
            </a:r>
            <a:endParaRPr b="0" lang="en-US" sz="16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E427-E51A-4112-965B-73BDFE4A05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rainer Notes:</a:t>
            </a:r>
            <a:endParaRPr b="0" lang="en-US" sz="1600" spc="-1" strike="noStrike">
              <a:solidFill>
                <a:srgbClr val="000000"/>
              </a:solidFill>
              <a:latin typeface="Calibri"/>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the passage. The author doesn’t come right out and tell us about Morgan’s parents, but she does give us clues. Look for the clues and use your own experience to help you make some comments about his parents. Remember that you will need to share your thinking with us as to how you figured it out.</a:t>
            </a:r>
            <a:endParaRPr b="0" lang="en-US" sz="16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the value of making the metacognitive process visible to aide comprehension.</a:t>
            </a:r>
            <a:endParaRPr b="0" lang="en-US" sz="16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You may want to provide additional examples of explicit instruction and mini lessons depending on the needs of the group.</a:t>
            </a: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18AB1-F197-40E1-AE1F-943D42F86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ED51F-8090-4045-AD9A-F17B4DBCF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9E39D-5A15-4987-AEEF-97AC16886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16C17-2319-492C-B919-2C5D08360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61966-9299-40E5-A536-A0194ADF7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10600-6569-449A-86CC-92C08A65C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0C240-6DFC-406B-956D-BF8A20FB6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12BBC-5E14-499C-A79C-1ED6FAADE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8C089-CEFB-4E54-B92F-CB29B041E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A7A7E-6A46-4187-9918-BFC2B294B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59F44-6633-45DE-A171-666AD4F16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99808-6BC1-4278-A50F-E332DA55B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34F0-1B98-4A79-BB43-4F85B242A66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ynn Inference Mini-Lesso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496800" y="6291360"/>
            <a:ext cx="2054160" cy="607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 Teacher Development Academy 2006</a:t>
            </a:r>
            <a:endParaRPr b="0" lang="en-US" sz="1400" spc="-1" strike="noStrike">
              <a:solidFill>
                <a:srgbClr val="000000"/>
              </a:solidFill>
              <a:latin typeface="Calibri"/>
            </a:endParaRPr>
          </a:p>
        </p:txBody>
      </p:sp>
      <p:sp>
        <p:nvSpPr>
          <p:cNvPr id="51" name="PlaceHolder 1"/>
          <p:cNvSpPr>
            <a:spLocks noGrp="1"/>
          </p:cNvSpPr>
          <p:nvPr>
            <p:ph type="title"/>
          </p:nvPr>
        </p:nvSpPr>
        <p:spPr>
          <a:xfrm>
            <a:off x="496800" y="320400"/>
            <a:ext cx="8150400" cy="1050840"/>
          </a:xfrm>
          <a:prstGeom prst="rect">
            <a:avLst/>
          </a:prstGeom>
          <a:noFill/>
          <a:ln w="0">
            <a:noFill/>
          </a:ln>
        </p:spPr>
        <p:txBody>
          <a:bodyPr lIns="0" rIns="0" tIns="0" bIns="0" anchor="ctr">
            <a:noAutofit/>
          </a:bodyPr>
          <a:p>
            <a:pPr indent="0" algn="ctr">
              <a:lnSpc>
                <a:spcPct val="95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000" spc="-1" strike="noStrike">
                <a:solidFill>
                  <a:srgbClr val="000000"/>
                </a:solidFill>
                <a:latin typeface="Arial"/>
              </a:rPr>
              <a:t>Inference: Explicit teacher modeling</a:t>
            </a:r>
            <a:endParaRPr b="0" lang="en-US" sz="4000" spc="-1" strike="noStrike">
              <a:solidFill>
                <a:srgbClr val="000000"/>
              </a:solidFill>
              <a:latin typeface="Calibri"/>
            </a:endParaRPr>
          </a:p>
        </p:txBody>
      </p:sp>
      <p:sp>
        <p:nvSpPr>
          <p:cNvPr id="52" name="PlaceHolder 2"/>
          <p:cNvSpPr>
            <a:spLocks noGrp="1"/>
          </p:cNvSpPr>
          <p:nvPr>
            <p:ph type="subTitle"/>
          </p:nvPr>
        </p:nvSpPr>
        <p:spPr>
          <a:xfrm>
            <a:off x="496800" y="1646280"/>
            <a:ext cx="8150400" cy="4433760"/>
          </a:xfrm>
          <a:prstGeom prst="rect">
            <a:avLst/>
          </a:prstGeom>
          <a:noFill/>
          <a:ln w="0">
            <a:noFill/>
          </a:ln>
        </p:spPr>
        <p:txBody>
          <a:bodyPr lIns="0" rIns="0" tIns="0" bIns="0" anchor="t">
            <a:noAutofit/>
          </a:bodyPr>
          <a:p>
            <a:pPr lvl="1" marL="455760" indent="-30636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we will be talking about inferences. Inferring is the ability to “read between the lines” to discover the author’s meaning that is implied, but not directly stated. Good readers make inferences as they read to help better understand the author’s message. This is an important comprehension strategy you will use as you read many different tex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496800" y="6291360"/>
            <a:ext cx="2054160" cy="607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 Teacher Development Academy 2006</a:t>
            </a:r>
            <a:endParaRPr b="0" lang="en-US" sz="1400" spc="-1" strike="noStrike">
              <a:solidFill>
                <a:srgbClr val="000000"/>
              </a:solidFill>
              <a:latin typeface="Calibri"/>
            </a:endParaRPr>
          </a:p>
        </p:txBody>
      </p:sp>
      <p:sp>
        <p:nvSpPr>
          <p:cNvPr id="54" name="PlaceHolder 1"/>
          <p:cNvSpPr>
            <a:spLocks noGrp="1"/>
          </p:cNvSpPr>
          <p:nvPr>
            <p:ph type="title"/>
          </p:nvPr>
        </p:nvSpPr>
        <p:spPr>
          <a:xfrm>
            <a:off x="496800" y="320400"/>
            <a:ext cx="8150400" cy="1050840"/>
          </a:xfrm>
          <a:prstGeom prst="rect">
            <a:avLst/>
          </a:prstGeom>
          <a:noFill/>
          <a:ln w="0">
            <a:noFill/>
          </a:ln>
        </p:spPr>
        <p:txBody>
          <a:bodyPr lIns="0" rIns="0" tIns="0" bIns="0" anchor="ctr">
            <a:noAutofit/>
          </a:bodyPr>
          <a:p>
            <a:pPr indent="0" algn="ctr">
              <a:lnSpc>
                <a:spcPct val="95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000" spc="-1" strike="noStrike">
                <a:solidFill>
                  <a:srgbClr val="000000"/>
                </a:solidFill>
                <a:latin typeface="Arial"/>
              </a:rPr>
              <a:t>Inference: Explicit teacher modeling</a:t>
            </a:r>
            <a:endParaRPr b="0" lang="en-US" sz="4000" spc="-1" strike="noStrike">
              <a:solidFill>
                <a:srgbClr val="000000"/>
              </a:solidFill>
              <a:latin typeface="Calibri"/>
            </a:endParaRPr>
          </a:p>
        </p:txBody>
      </p:sp>
      <p:sp>
        <p:nvSpPr>
          <p:cNvPr id="55" name="PlaceHolder 2"/>
          <p:cNvSpPr>
            <a:spLocks noGrp="1"/>
          </p:cNvSpPr>
          <p:nvPr>
            <p:ph type="subTitle"/>
          </p:nvPr>
        </p:nvSpPr>
        <p:spPr>
          <a:xfrm>
            <a:off x="496800" y="1646280"/>
            <a:ext cx="8150400" cy="4433760"/>
          </a:xfrm>
          <a:prstGeom prst="rect">
            <a:avLst/>
          </a:prstGeom>
          <a:noFill/>
          <a:ln w="0">
            <a:noFill/>
          </a:ln>
        </p:spPr>
        <p:txBody>
          <a:bodyPr lIns="0" rIns="0" tIns="0" bIns="0" anchor="t">
            <a:noAutofit/>
          </a:bodyPr>
          <a:p>
            <a:pPr lvl="1" marL="455760" indent="-30636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emy hated trying to talk while driving. There was far too much to think about. Traffic behind and ahead. Traffic to the left and traffic to the right. Curbs and signs and red lights and turns. Foot on brake and hands on wheel.”</a:t>
            </a:r>
            <a:endParaRPr b="0" lang="en-US" sz="3200" spc="-1" strike="noStrike">
              <a:solidFill>
                <a:srgbClr val="000000"/>
              </a:solidFill>
              <a:latin typeface="Calibri"/>
            </a:endParaRPr>
          </a:p>
          <a:p>
            <a:pPr lvl="1" marL="4557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4" marL="1541520" indent="-2034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ney, C., </a:t>
            </a:r>
            <a:r>
              <a:rPr b="0" lang="en-US" sz="2000" spc="-1" strike="noStrike" u="sng">
                <a:solidFill>
                  <a:srgbClr val="000000"/>
                </a:solidFill>
                <a:uFillTx/>
                <a:latin typeface="Arial"/>
              </a:rPr>
              <a:t>Driver’s Ed,</a:t>
            </a:r>
            <a:r>
              <a:rPr b="0" lang="en-US" sz="2000" spc="-1" strike="noStrike">
                <a:solidFill>
                  <a:srgbClr val="000000"/>
                </a:solidFill>
                <a:latin typeface="Arial"/>
              </a:rPr>
              <a:t> Dell Laurel-Leaf, 1994, p. 5.</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496800" y="6291360"/>
            <a:ext cx="2054160" cy="607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 Teacher Development Academy 2006</a:t>
            </a:r>
            <a:endParaRPr b="0" lang="en-US" sz="1400" spc="-1" strike="noStrike">
              <a:solidFill>
                <a:srgbClr val="000000"/>
              </a:solidFill>
              <a:latin typeface="Calibri"/>
            </a:endParaRPr>
          </a:p>
        </p:txBody>
      </p:sp>
      <p:sp>
        <p:nvSpPr>
          <p:cNvPr id="57" name="PlaceHolder 1"/>
          <p:cNvSpPr>
            <a:spLocks noGrp="1"/>
          </p:cNvSpPr>
          <p:nvPr>
            <p:ph type="title"/>
          </p:nvPr>
        </p:nvSpPr>
        <p:spPr>
          <a:xfrm>
            <a:off x="496800" y="320400"/>
            <a:ext cx="8150400" cy="10508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Guided Practice</a:t>
            </a:r>
            <a:endParaRPr b="0" lang="en-US" sz="4400" spc="-1" strike="noStrike">
              <a:solidFill>
                <a:srgbClr val="000000"/>
              </a:solidFill>
              <a:latin typeface="Calibri"/>
            </a:endParaRPr>
          </a:p>
        </p:txBody>
      </p:sp>
      <p:sp>
        <p:nvSpPr>
          <p:cNvPr id="58" name="PlaceHolder 2"/>
          <p:cNvSpPr>
            <a:spLocks noGrp="1"/>
          </p:cNvSpPr>
          <p:nvPr>
            <p:ph type="subTitle"/>
          </p:nvPr>
        </p:nvSpPr>
        <p:spPr>
          <a:xfrm>
            <a:off x="496800" y="1646280"/>
            <a:ext cx="8150400" cy="4433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He knew he was not teaching. He was merely there and they were merely there. Time passed and then they left. Year after year he and they drifted through an eight-week session.”</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3" marL="1128600" indent="-20304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ney, C., </a:t>
            </a:r>
            <a:r>
              <a:rPr b="0" lang="en-US" sz="2000" spc="-1" strike="noStrike" u="sng">
                <a:solidFill>
                  <a:srgbClr val="000000"/>
                </a:solidFill>
                <a:uFillTx/>
                <a:latin typeface="Arial"/>
              </a:rPr>
              <a:t>Driver’s Ed,</a:t>
            </a:r>
            <a:r>
              <a:rPr b="0" lang="en-US" sz="2000" spc="-1" strike="noStrike">
                <a:solidFill>
                  <a:srgbClr val="000000"/>
                </a:solidFill>
                <a:latin typeface="Arial"/>
              </a:rPr>
              <a:t> Dell Laurel-Leaf, 1994, p. 8.</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496800" y="6291360"/>
            <a:ext cx="2054160" cy="607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 Teacher Development Academy 2006</a:t>
            </a:r>
            <a:endParaRPr b="0" lang="en-US" sz="1400" spc="-1" strike="noStrike">
              <a:solidFill>
                <a:srgbClr val="000000"/>
              </a:solidFill>
              <a:latin typeface="Calibri"/>
            </a:endParaRPr>
          </a:p>
        </p:txBody>
      </p:sp>
      <p:sp>
        <p:nvSpPr>
          <p:cNvPr id="60" name="PlaceHolder 1"/>
          <p:cNvSpPr>
            <a:spLocks noGrp="1"/>
          </p:cNvSpPr>
          <p:nvPr>
            <p:ph type="title"/>
          </p:nvPr>
        </p:nvSpPr>
        <p:spPr>
          <a:xfrm>
            <a:off x="496800" y="320400"/>
            <a:ext cx="8150400" cy="10508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Independent Practice</a:t>
            </a:r>
            <a:endParaRPr b="0" lang="en-US" sz="4400" spc="-1" strike="noStrike">
              <a:solidFill>
                <a:srgbClr val="000000"/>
              </a:solidFill>
              <a:latin typeface="Calibri"/>
            </a:endParaRPr>
          </a:p>
        </p:txBody>
      </p:sp>
      <p:sp>
        <p:nvSpPr>
          <p:cNvPr id="61" name="PlaceHolder 2"/>
          <p:cNvSpPr>
            <a:spLocks noGrp="1"/>
          </p:cNvSpPr>
          <p:nvPr>
            <p:ph type="subTitle"/>
          </p:nvPr>
        </p:nvSpPr>
        <p:spPr>
          <a:xfrm>
            <a:off x="388440" y="1782720"/>
            <a:ext cx="8487000" cy="47260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organ’s parents had far greater plans for their son than normalcy. They expected straight A’s, brilliance in field and gym, leadership in student government, astonishing achievement in some unusual and fascinating activity, plus a clear complexion.”</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3" marL="1128600" indent="-20304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ney, C., </a:t>
            </a:r>
            <a:r>
              <a:rPr b="0" lang="en-US" sz="2000" spc="-1" strike="noStrike" u="sng">
                <a:solidFill>
                  <a:srgbClr val="000000"/>
                </a:solidFill>
                <a:uFillTx/>
                <a:latin typeface="Arial"/>
              </a:rPr>
              <a:t>Driver’s Ed,</a:t>
            </a:r>
            <a:r>
              <a:rPr b="0" lang="en-US" sz="2000" spc="-1" strike="noStrike">
                <a:solidFill>
                  <a:srgbClr val="000000"/>
                </a:solidFill>
                <a:latin typeface="Arial"/>
              </a:rPr>
              <a:t> Dell Laurel-Leaf, 1994, p. 21.</a:t>
            </a:r>
            <a:endParaRPr b="0" lang="en-US" sz="20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lhockenberry</dc:creator>
  <dc:description/>
  <dc:language>en-US</dc:language>
  <cp:lastModifiedBy>lhockenberry</cp:lastModifiedBy>
  <dcterms:modified xsi:type="dcterms:W3CDTF">2011-01-20T21:48:59Z</dcterms:modified>
  <cp:revision>1</cp:revision>
  <dc:subject/>
  <dc:title>Lynn Inference Mini-Lesson</dc:title>
</cp:coreProperties>
</file>